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471-4216-4CA3-AFD3-74F59934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85A-8AD6-4240-9970-BB5D59DC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163-C714-46EA-AF85-1C4984B2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1AC-7AB3-465C-BC26-75C807E6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28F-76BF-4CB4-90D8-F9B0A1A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14C-D41A-469B-8112-D61A870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A48-8A6B-45E0-9D51-4C35BE82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97B-0770-40E2-9F10-3F0CF6B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277-0423-4821-B6DF-BC05F14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6C5-48DA-4B9E-89DA-A69C9A9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659-FFDB-45A4-812E-1DACEDE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2AA-DBE3-4D41-9A05-0878706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9C1F-787F-484B-9632-297E3DB4D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90 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Bookman Old Style"/>
              </a:rPr>
              <a:t>О, Боже наш, Ти, който сам Си любов, бъди със нас 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01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Исусе наш,</a:t>
            </a:r>
            <a:br>
              <a:rPr sz="6000"/>
            </a:b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Ти извор си на благодат, бъди със нас 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О, Святи Дух,</a:t>
            </a:r>
            <a:br>
              <a:rPr sz="6000"/>
            </a:b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Ти наш утешител и дар, бъди със</a:t>
            </a:r>
            <a:br>
              <a:rPr sz="6000"/>
            </a:b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нас и пази и благосло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4:23:04Z</dcterms:created>
  <dc:creator>TrifonTrifonow</dc:creator>
  <dc:description/>
  <dc:language>en-US</dc:language>
  <cp:lastModifiedBy>TrifonTrifonow</cp:lastModifiedBy>
  <dcterms:modified xsi:type="dcterms:W3CDTF">2005-09-09T14:31:12Z</dcterms:modified>
  <cp:revision>5</cp:revision>
  <dc:subject/>
  <dc:title>89 О, Боже наш, Ти, който сам Си любов, бъди със нас и пази и благослови.</dc:title>
</cp:coreProperties>
</file>